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FDF-D540-48DF-B5CB-CF365B46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00F-1776-4633-8171-36B167C1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01B-93A6-4CF3-B89D-C5E9B100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3DB-B984-4BA8-8FB9-5BB157AD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173-8179-4A4C-8258-FD8F3636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25E-8BA1-447F-9C77-7BC828FD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C47-E72A-4E7D-A509-BED1E6F8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E37-4C66-4796-90D5-DBFE4B59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FB7-9BAA-41DF-9971-D3C19080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429-BCA8-4F1D-BE45-D7136A4F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0EC-5F1F-4942-BE25-56D2D899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8ED-58F1-4305-B3CD-7B4E2E0E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B523A-AC22-42C4-8692-8FCF883D3F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58624-5DAA-4EF7-8EBE-D589E37A0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creen shot 2014-01-24 at 6.29.22 PM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creen shot 2014-01-24 at 6.29.34 PM.pn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creen shot 2014-01-24 at 6.29.44 PM.pn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creen shot 2014-01-24 at 6.30.03 PM.pn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23:30:51Z</dcterms:created>
  <dc:creator>Saint Michael</dc:creator>
  <dc:description/>
  <dc:language>en-US</dc:language>
  <cp:lastModifiedBy>Saint Michael</cp:lastModifiedBy>
  <dcterms:modified xsi:type="dcterms:W3CDTF">2014-01-24T23:31:50Z</dcterms:modified>
  <cp:revision>1</cp:revision>
  <dc:subject/>
  <dc:title>Slide 1</dc:title>
</cp:coreProperties>
</file>